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883-593E-4178-92DE-1E2329CC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C65-D740-49CA-B890-BB11599A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824-F360-4FB4-B95A-06B8E011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CFB-CB97-41DA-8CDF-FDE0CC24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C66A-2E13-4A83-8C5B-FCD8B7F9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7832-03DC-49A8-91C2-40447274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7E9E-6D4C-4DCA-A50B-9AC92719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4A74-6367-41BB-A61E-9DC8B2F1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9BEE-8247-4EE4-8DE3-D11B2F3A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7A4-5DBD-4015-8D33-7161ED26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5F31-1320-44BC-BC4D-DEC934A8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DF1-8272-4EBB-866C-3F25D15B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AAE7-7F3C-4D13-957B-FB4E72D1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BFB5-9907-4E14-91E9-3B1C59EC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D7B1-D80A-44E3-BAEB-D2DB932D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20D5-02D6-4365-8AFC-E4CF012A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DCC7-4639-4E1C-88B4-5EADECDF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EE5-4452-4265-8DEB-6D125030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A0B-75DA-4C61-85B5-D6DFA799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FDB-AF9C-40B6-BEC6-FB7EE0A3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86B-C3FE-4B27-9FB1-26A7F24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FD7-8085-450B-BF2B-6CE112E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CED-5F0D-498D-9CF2-AD61B1B8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451-ED1B-49E5-8FE5-6DD3B127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1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D288-8A4A-42B0-B242-784BBF29E6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01F3-5292-4471-B742-A724F43B6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the Tre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18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the Tre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2C98-5F5D-4296-AA6F-2F5C2033BD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1BED-A5DD-48E2-B9FE-7E4A8C227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.3 Building the Tree of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Six Kingdo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 the 1990s, researchers had learned that the organisms in kingdom Monera were actually two genetically and biochemically different group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Six Kingdo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Alex\Desktop\Batch 4\Art\Art 3_18_09+\BIO10NAE_05_18_04_005_LRIM_01.png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828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nerans were placed in two kingdoms—Eubacteria and Archaebacte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now six kingd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ree Dom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tic analysis has revealed that the two main prokaryotic kingdoms are more different from each other, and from eukaryotes, than previously thought. So, biologists established a new taxonomic category—the dom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larger, more inclusive category than a kingd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 this system, there are three domains—domain Bacteria (corresponding to kingdom Eubacteria), domain Archaea (corresponding to kingdom Archaebacteria), and domain Eukarya (corresponding to kingdoms Fungi, Plantae, Animalia, and kingdom Protist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ree Dom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Alex\Desktop\Batch 4\Art\Art 3_18_09+\BIO10NAE_05_18_04_005_LRIM_02.png"/>
          <p:cNvPicPr/>
          <p:nvPr/>
        </p:nvPicPr>
        <p:blipFill>
          <a:blip r:embed="rId1"/>
          <a:stretch/>
        </p:blipFill>
        <p:spPr>
          <a:xfrm>
            <a:off x="-1295280" y="1905120"/>
            <a:ext cx="11850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The Tree of All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rn evolutionary classification is a rapidly changing science with the difficult goal of presenting all life on a single phylogenetic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ree of life shows current hypotheses regarding evolutionary relationships among the taxa within the three dom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The Tree of All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lex\Desktop\Batch 4\Art\Art 3_18_09+\BIO10NAE_05_18_04_005_LRIM_03.pn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omain Bacteri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do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ter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unicellular and prokaryotic. This domain corresponds to the kingdom Eu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ir cells have thick, rigid walls that surround a cell membrane and contain a substance known as peptidoglyc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bacteria are ecologically diverse, ranging from free-living soil organisms to deadly parasi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hotosynthesize, while others do n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need oxygen to survive, while others are killed by oxyg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omain Archae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omain Archaea corresponds to the kingdom Archae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do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a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unicellular and prokaryotic, and they live in some extreme environments—in volcanic hot springs, brine pools, and black organic mud totally devoid of oxyg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y of these bacteria can survive only in the absence of oxyg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ir cell walls lack peptidoglycan, and their cell membranes contain unusual lipids that are not found in any other organis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Domain Eukary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kary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ists of all organisms that have a nucle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comprises the four remaining kingdoms of the six-kingdom system: Protista, Fungi, Plantae, and Anima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The Protists: Unicellular Eukaryot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kingdom Protista has long been viewed by biologists as 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chal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roup of eukaryotes that could not be classified as fungi, plants, or anim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chromosomes are scientists able to track mutations in to determine human family lineages? Where is this chromosome f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The </a:t>
            </a:r>
            <a:r>
              <a:rPr b="1" lang="ja-JP" sz="3200" spc="-1" strike="noStrike">
                <a:solidFill>
                  <a:srgbClr val="3366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Protists</a:t>
            </a:r>
            <a:r>
              <a:rPr b="1" lang="ja-JP" sz="3200" spc="-1" strike="noStrike">
                <a:solidFill>
                  <a:srgbClr val="3366ff"/>
                </a:solidFill>
                <a:latin typeface="Arial"/>
                <a:ea typeface="Arial"/>
              </a:rPr>
              <a:t>”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: Unicellular Eukary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protists are unicellular, but one group, the brown algae, is multicell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protists are photosynthetic, while others are heterotrophi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display characters that resemble those of fungi, plants, or anima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Fungi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kingdom Fungi are heterotrophs with cell walls containing chit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fungi feed on dead or decaying organic matt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ecrete digestive enzymes into their food source, which break the food down into smaller molecu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gi then absorb these smaller molecules into their bod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hrooms and other recognizable fungi are multicel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fungi—yeasts, for example—are unicel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Planta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kingdom Plantae are multicellular, have cell walls that contain cellulose, and are autotroph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trophic plants are able to carry on photosynthesis using chlorophy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ts are nonmotile—they cannot move from place to pl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ntire plant kingdom is the sister group to the red algae, which ar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ist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plant kingdom, therefore, includes the green algae along with mosses, ferns, cone-bearing plants, and flowering pl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Animali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kingdom Animalia are multicellular and heterotroph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l cells do not have cell wa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animals can move about, at least for some part of their life cy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incredible diversity within the animal kingdom, and many species of animals exist in nearly every part of the plan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 the six kingdoms of life as they are now identif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what the tree of life repres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INK ABOUT IT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Not on notes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cess of identifying and naming all known organisms, both living and extinct, is a huge first step toward the goal of systemat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al challenge, however, is to group everything—from bacteria to dinosaurs to blue whales—in a way that reflects their evolutionary relationshi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the years, new information and new ways of studying organisms have produced major changes in Linnae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original scheme for organizing living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anging Ideas About Kingd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ing Linnae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time, living things were classified as either an animal or as a pla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ls were organisms that moved from place to place and ate food for their energ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ts were green organisms that generally did not move and got their energy from the su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anging Ideas About Kingd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iologists learned more about the natural world, they realized that Linnae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two kingdoms—Animalia and Plantae—did not reflect the full diversity of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fication systems have changed dramatically since Linnae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time, and hypotheses about relationships among organisms are still changing today as new data is coll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anging Ideas About Kingd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534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diagram shows some of the ways in which organisms have been classified into kingdoms since the 1700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Alex\Desktop\Batch 4\Art\Art 3_18_09+\BIO10NAE_05_18_04_005_LRIM_01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Five Kingdo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first, all microorganisms were placed in their own kingdom, named Prot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ter, yeasts, molds, and mushrooms, were placed in their own kingdom, Fun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ientists then realized that bacteria lack a nucleus so they were placed in another new kingdom, Mone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-celled eukaryotic organisms remained in the kingdom Protis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Five Kingdom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process produced five kingdoms: Monera, Protista, Fungi, Plantae, and Anima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Alex\Desktop\Batch 4\Art\Art 3_18_09+\BIO10NAE_05_18_04_005_LRIM_01.png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20:54Z</dcterms:created>
  <dc:creator>Alex</dc:creator>
  <dc:description/>
  <dc:language>en-US</dc:language>
  <cp:lastModifiedBy>dzahm</cp:lastModifiedBy>
  <dcterms:modified xsi:type="dcterms:W3CDTF">2013-12-03T19:13:29Z</dcterms:modified>
  <cp:revision>239</cp:revision>
  <dc:subject/>
  <dc:title>Slide 1</dc:title>
</cp:coreProperties>
</file>